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515-3537-4F27-98E5-050B6377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E0C-BE36-463C-BF0D-E4BCE6F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A4B-1377-44AB-AE3D-973516CC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9DF-A9FF-486E-A7D1-0AD864A4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BA7-77E7-4235-A8F2-01AC224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69F-C456-46DE-9AD5-8903D7A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9A5-C844-4D71-9044-36410FF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076-1729-4ED8-AC6A-E227288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B2A-B7BF-4611-B80B-ED27842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DCA-F44B-4FD5-8C8A-0DA7E918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AB8-84B4-465A-AC1C-F1C7B5A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736-2272-4FBA-82EB-F5C6D74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2B6-F9FC-4283-9240-4492F404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 Y LOS ARGONAU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el referente de un héroe clásico de las narraciones de aven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un héroe que debe hacer una misión, encontrar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67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el referente de películas concret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ículas del agente 007 fue el referente del cine de aventuras de los años        1960-19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lículas de Indiana Jones fue el referente del cine de aventuras del año 19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·Marta Martínez Monterr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FASES DE LA BUSQUEDA DEL VELLOC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El rey Pelias l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ncarga el velloci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Jas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Jasón emprende un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rgo viaje y accident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leg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Jasón y los Argonautas al lugar y el enfrentamiento para conseguir el velloc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yuda amorosa y inesper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recibe Jasón por parte de Medea, hija de Pel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uida accident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El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retorno victorios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junto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EL ENCARGO PRE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2087640" cy="2592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18730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s dos  foto podemos ver a Jasón con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54952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11280" y="6165720"/>
            <a:ext cx="576000" cy="358920"/>
          </a:xfrm>
          <a:prstGeom prst="leftArrow">
            <a:avLst>
              <a:gd name="adj1" fmla="val 50000"/>
              <a:gd name="adj2" fmla="val 4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El viaje largo y acciden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27520" y="1600200"/>
            <a:ext cx="207972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1636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39640" y="616572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Llegada al lugar y la lucha para conseguir el velloc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 imagen se muestra como Jasón y los Argonautas se enfrentan contra viento y marea a todo lo que se les pone por de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413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La ayuda amorosa de Me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recibió la ayuda de Medea gracias a Cipris, quien hizo un conjuro para que esta se enamorara de el y le ayud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938760"/>
            <a:ext cx="2665440" cy="236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376360" cy="230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6165720"/>
            <a:ext cx="574560" cy="28764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La huida accident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4640" y="1600200"/>
            <a:ext cx="36021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una vez consiguio el vellocino decidio irse, pero Eetes lo persigue por mar, finalmente Jasón, Medea y los Argonautas  regresan sanos y sal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165720"/>
            <a:ext cx="574560" cy="358920"/>
          </a:xfrm>
          <a:prstGeom prst="lef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El retorno victori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y los Argonautas regresan sanos y salvos a Yolco, y la historia finaliza así, pero hay leyendas que nos cuentan cómo Jasón ayudado por Medea reconquista su tr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264120" cy="367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Argonauticas de Apolonio de Rodas: El mito 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són es el referente del cine de aventuras en pelicula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iaje Fantástico de Simb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alcón Mal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cah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disea en e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22:18Z</dcterms:created>
  <dc:creator>Jose Vte</dc:creator>
  <dc:description/>
  <dc:language>en-US</dc:language>
  <cp:lastModifiedBy>Jose Vte</cp:lastModifiedBy>
  <dcterms:modified xsi:type="dcterms:W3CDTF">2010-01-10T21:41:22Z</dcterms:modified>
  <cp:revision>3</cp:revision>
  <dc:subject/>
  <dc:title>JASON Y LOS ARGONAUTAS</dc:title>
</cp:coreProperties>
</file>